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12A-6620-48A1-9750-848799BC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C8C-CC4C-4619-BCC2-DBA4E9A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061-328F-42BC-B1B3-D3BD5374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3F0-2533-4F06-80C4-8E4B219E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A20C-F0D6-4AFD-BA3A-92D13B0D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950-99AE-4708-94AB-54ADAA7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B32B-E5E5-4005-8AB0-7D36147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68AB-9749-47FB-BEA5-A9759C8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0B4B-945F-437C-AA95-CAA9607D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E23A-BE1F-42C2-B876-7B48184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8AA-F485-427B-88DA-741F9AD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52A-D8A5-403F-981E-DF828B0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2291-895E-47B3-BBB6-22CDCE28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B51D-EFA9-4A2D-A523-36B14BD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E2C-45B0-46D3-9458-EA2DD1D6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249A-0329-45B1-A481-1EE436E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B0C5-81FB-469A-B216-33FE1E31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608-6A85-4026-A6CA-FF552D4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05D-F865-49BC-94A8-A6F7E8AB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482-89E4-45DE-90FA-E0309CB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319-0B87-4227-8D29-F646610B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B35-F691-4CAF-9C13-F27B2EE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FF0-400F-41F8-B2F9-5616DAE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D9A-57BD-4A87-B0BD-EFC3CFD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D82D-2181-4A0D-A734-D4FF4CAB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588-0A14-4B48-8275-3259FAF7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Bean Bag Toss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bean bags onto words to practice gross motor skills and vocabulary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Bean Bag To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words on the fl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class into two or three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take turns tossing their bean bag onto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keep words they can give the correct definition for, or use correctly in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ning team has the most cards at the end of the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48:15Z</dcterms:modified>
  <cp:revision>7</cp:revision>
  <dc:subject/>
  <dc:title>Light Up the World A vocabulary game from Mentoring Minds Grades 1-4</dc:title>
</cp:coreProperties>
</file>